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F4F-68E2-40C9-B80C-602F38EE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F9B-F99D-421E-8A6B-AD26177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96C-9D3E-42D5-A3D9-A7387C37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1EA-F64A-4757-B807-47DAE8C0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8A7-CCBA-4A48-8D2E-496260C3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B3A-64F4-497D-8C65-52984FCB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F05-A73F-4238-9098-FE678DDF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4CE-3E92-41CF-B98F-F33CCD5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AA4-EA4C-4B9B-975C-9133ABB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943-918A-4743-BBE6-52BF3F1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584-9329-47A2-8197-A4A41D5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262-0524-4493-80D0-6FABCDD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6788-FA3D-4581-AFD0-114A497429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41936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44:45Z</dcterms:modified>
  <cp:revision>586</cp:revision>
  <dc:subject/>
  <dc:title>Diapositiva 1</dc:title>
</cp:coreProperties>
</file>